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59E-19C0-4FE6-8BB4-EB7B2C28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F7C-C718-4BD9-8E1E-8C288D4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02B-BED6-4307-BA3B-0FED5BFA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241-B99D-4FC8-B053-89602E89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470-4D48-4D38-8619-0A67EFB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F3B-FE2D-4F3D-93B8-E2BBEF6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E07-61D3-467D-AB9B-A320D6A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313-231C-4C00-BD96-6135CF6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5D4-77F4-4AA8-B510-7DF2F07B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542-ECFD-4603-A9C8-A20C2FA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034-BDB0-485B-B22A-812097A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EE0-F2F6-49DB-AE19-7B25A32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D99-C24F-406B-B41D-F92B0BEF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06668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 Black"/>
              </a:rPr>
              <a:t>Doodles for Goog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85720"/>
            <a:ext cx="8534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62000" y="71280"/>
            <a:ext cx="9468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6535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53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62000" y="71280"/>
            <a:ext cx="9468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1960" y="585720"/>
            <a:ext cx="8020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1960" y="585720"/>
            <a:ext cx="8020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52:29Z</dcterms:created>
  <dc:creator>Patrick J. Mooney</dc:creator>
  <dc:description/>
  <dc:language>en-US</dc:language>
  <cp:lastModifiedBy>Patrick J. Mooney</cp:lastModifiedBy>
  <dcterms:modified xsi:type="dcterms:W3CDTF">2010-03-17T21:47:14Z</dcterms:modified>
  <cp:revision>3</cp:revision>
  <dc:subject/>
  <dc:title>Slide 1</dc:title>
</cp:coreProperties>
</file>